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B153-C33D-4AA1-BA84-50FA7162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EA3-8600-4B09-A0DD-0CBE5C05658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954-B8EF-495E-80DA-B2C4DEA6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22A-5C2E-4D89-9129-093CE7D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C6D-A96C-4FFD-AA7B-20410115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A2E-1E0D-4B1E-B7A7-482F21DA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3A2-DFFA-45B0-B8DC-6751FC5E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BA17-1F48-43EC-BF3D-F4073335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B9A-5531-4F59-93A5-D924958F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F8EF-31A8-4DD7-9C22-0837972A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37AC-29F9-48F7-B98E-126BF75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79AA-CE87-4C92-8AA8-D311157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E3B7-531D-4F69-BB62-5BB7FAF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4A9-5183-4204-8879-F9A3084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68F2-E2F1-403E-9E7D-D028E98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55DF-CDFA-4175-828C-588305C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4AB8-AE2A-4824-B1D7-D8A799BF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89D-6766-4095-9CF5-3B8DD3E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AA8-C7E5-460A-A73C-AC261EA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C6A-E066-4D36-B8DE-E2124968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45C-9FD6-4D77-B64A-34FF98B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083-341D-45F9-B908-6EAB8D10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773-20EC-4062-9C27-33B9AF24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0A0-1810-436A-8B1B-1A1BD46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759-F9BD-4DAB-85E0-E766245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0CC-010A-4849-8AE5-3A24245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240-EE9C-4369-9145-D94175A3C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BE5C-B854-49C2-AC09-BA0A9085CF2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`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838080" y="990720"/>
            <a:ext cx="7239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13 English  Coloni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Middle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illiam Pen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had borrowed money from PENNS wealthy fa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w Penn asked for land as repayments. Penn wanted to build a colony based on his religious belief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5" descr="William Penn"/>
          <p:cNvPicPr/>
          <p:nvPr/>
        </p:nvPicPr>
        <p:blipFill>
          <a:blip r:embed="rId1"/>
          <a:stretch/>
        </p:blipFill>
        <p:spPr>
          <a:xfrm>
            <a:off x="5715000" y="1600200"/>
            <a:ext cx="3009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64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glish warships sailed into New Amsterdam harb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_Middle_Colonies__New_York_and_New_Jersey.as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1828800" y="30492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VIE 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outhern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3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Charles I gave a large section of land north of  Virginia to a catholic landowner named Lord Baltimo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9" descr="Charles the First at Edgehill by Sir Edwin Landseer."/>
          <p:cNvPicPr/>
          <p:nvPr/>
        </p:nvPicPr>
        <p:blipFill>
          <a:blip r:embed="rId1"/>
          <a:stretch/>
        </p:blipFill>
        <p:spPr>
          <a:xfrm>
            <a:off x="4525920" y="1676520"/>
            <a:ext cx="3094200" cy="3751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mes Oglethorp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 English leader named James Oglethorpe helped found the last English colonies North Ameri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glethorpe saw that English jails  were  crowded with Debtors, or people who owned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5" descr="Ogle52"/>
          <p:cNvPicPr/>
          <p:nvPr/>
        </p:nvPicPr>
        <p:blipFill>
          <a:blip r:embed="rId1"/>
          <a:stretch/>
        </p:blipFill>
        <p:spPr>
          <a:xfrm>
            <a:off x="6006960" y="1981080"/>
            <a:ext cx="313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732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ing George ll gave Oglethorpe a Charter to land  south of the Carolin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ll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mochich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62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mochichi chief of the Yamacraw trib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Yamacraw agreed to give land to Oglethorpe and his settle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ith about 100 released debtors, Oglethorpe founded his first settlement in Georgia, which he named savanna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5" descr="TomoChiChi"/>
          <p:cNvPicPr/>
          <p:nvPr/>
        </p:nvPicPr>
        <p:blipFill>
          <a:blip r:embed="rId1"/>
          <a:stretch/>
        </p:blipFill>
        <p:spPr>
          <a:xfrm>
            <a:off x="5845320" y="1981080"/>
            <a:ext cx="329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6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King Charles gave eight proprietors a Charter between Virginia and the Spanish colony of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w England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72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olina was divided into two separate colon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rginia ,160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ablish English colony in North American, search for go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orgia, 173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fuge for debtors ,Colony between Carolinas &amp;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_Southern_Colonies.as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1828800" y="30492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VIE 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NEW ENGLAND COLONIE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IDDLE COLONIE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OUTHEN COLON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OGER WILLIAM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ISSENT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NE HUTCHINS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OMAS HOOK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ILLIAM PEN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ROPRIETOR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JAMAES OGLETHORP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B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OMOCHICH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3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dger Williams traveled south in the snowy weath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Hooker a puritan minister left Massachusetts with about 100 follow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6" descr="Roger Williams: Roger Williams Building His House"/>
          <p:cNvPicPr/>
          <p:nvPr/>
        </p:nvPicPr>
        <p:blipFill>
          <a:blip r:embed="rId1"/>
          <a:stretch/>
        </p:blipFill>
        <p:spPr>
          <a:xfrm>
            <a:off x="3276720" y="0"/>
            <a:ext cx="2819160" cy="2049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orveledwinhookersr2"/>
          <p:cNvPicPr/>
          <p:nvPr/>
        </p:nvPicPr>
        <p:blipFill>
          <a:blip r:embed="rId2"/>
          <a:stretch/>
        </p:blipFill>
        <p:spPr>
          <a:xfrm>
            <a:off x="6324480" y="4481640"/>
            <a:ext cx="2819520" cy="252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ne Hutchin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was another dissenter who angered Puritan leaders in Massachuset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believed that a person’s own faith in God was more important than the church’s rules and law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ts?t=11438860259251752903&amp;pid=23296&amp;ppid=9"/>
          <p:cNvPicPr/>
          <p:nvPr/>
        </p:nvPicPr>
        <p:blipFill>
          <a:blip r:embed="rId1"/>
          <a:stretch/>
        </p:blipFill>
        <p:spPr>
          <a:xfrm>
            <a:off x="0" y="0"/>
            <a:ext cx="22096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ger William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was an outspoken young minister in Salem ,Massachuset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believed that the government should not punish citizens for what they believ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illiams was known as a dissent, a person whose view differ from those held by most people in the community , because of his beliefs ,Puritan leaders forced Williams to leave Massachuset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5" descr="From RWU Archives"/>
          <p:cNvPicPr/>
          <p:nvPr/>
        </p:nvPicPr>
        <p:blipFill>
          <a:blip r:embed="rId1"/>
          <a:stretch/>
        </p:blipFill>
        <p:spPr>
          <a:xfrm>
            <a:off x="307800" y="0"/>
            <a:ext cx="159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omas Hooker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left Massachusetts with about 100 follow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oker and his followers came to this new land in search of greater religious and political freedo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5" descr="hookertn"/>
          <p:cNvPicPr/>
          <p:nvPr/>
        </p:nvPicPr>
        <p:blipFill>
          <a:blip r:embed="rId1"/>
          <a:stretch/>
        </p:blipFill>
        <p:spPr>
          <a:xfrm>
            <a:off x="5300640" y="1523880"/>
            <a:ext cx="27478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w Hampshire, 167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hn Wheelwright trade, fis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ssachusetts bay, 163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cape Religious Persecution in Englan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troduction_to_the_New_England_Colonies.as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1828800" y="30492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VIE 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16:25Z</dcterms:created>
  <dc:creator>student</dc:creator>
  <dc:description/>
  <dc:language>en-US</dc:language>
  <cp:lastModifiedBy>student</cp:lastModifiedBy>
  <dcterms:modified xsi:type="dcterms:W3CDTF">2010-03-22T13:58:00Z</dcterms:modified>
  <cp:revision>16</cp:revision>
  <dc:subject/>
  <dc:title>Slide 1</dc:title>
</cp:coreProperties>
</file>